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1F1-6529-4062-9E8A-23643558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3B94-450F-4C1A-BC3B-2E51515C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0C3-450B-40C7-9767-51104D19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6602-96CD-4E26-9A4E-B1BD7CAB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757B-26BB-40CE-8D79-D6C5B612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ABA9-66AD-4E9D-933A-0CB35C75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0E8F-1E83-4C31-9384-56EB4E23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95AE-8EF6-41C8-BF2B-F228DCD6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C358-0760-452F-8940-4402C45D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4A23-1C1B-4C46-BBC6-D02EBD5B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761B-F3C2-4170-90C3-E5E3D035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AC1-F5D8-42F5-98B5-56345DD3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6EAA-688B-4DF8-B8FD-0BBE3629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AA8E-1B35-4146-A9A5-4C5FEC09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3D55-CCEA-4D12-B1AD-244B646D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1FDB-D9AB-4B3F-80D4-4D069B0F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762A-0AEB-49B6-A1CE-4ECD29E7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5BA5C-94C4-425A-BB79-40AB7E7B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01F2A-A34C-4C78-A81F-41255E3E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ECC60-D735-4641-8CC4-B348F36A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4D816-6436-4294-B10A-776CF83E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2302B-E366-43FC-AC15-0088D10A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2BD2-D480-4786-8131-048A4060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37994-7F04-440B-9DF5-C82CA7FE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57228-8EB4-4178-843D-A627CC1C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A7441-4679-403D-8EB9-7F36F0D7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ECD4D-CA0C-4CC8-AA51-45C10329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1C9B7-586B-4D7C-9073-63C9C313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2B35B-90D2-4013-961A-67AD0783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E0CF1-8B38-4B78-A7CC-6DF65F6B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ABDFE-0758-4444-98C1-720C483D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1E599-DFF7-4BAD-8B3E-EBFB07AE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9EF8C-4051-4A9B-A4C6-E187C0F4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F9E-DDA2-47CB-82E4-384F5074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05668-5E69-4B72-83FA-0875D155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C75A1-3C5C-48CA-BAA4-89FD8994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BE9B5-08B3-47D6-AD2B-4D23503C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6FC7B-DE7A-4F7B-917D-67A25753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1FAD8-435C-41F6-BCAE-E97222A1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F5FD1-4340-43CA-BE37-AF9EC47D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738EC-CBE0-438D-BE91-2441C837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68E99-8854-48B3-BE14-6119B2AC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77181-4FEC-404D-B788-87E97DE3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F4C64-EC25-4C08-81B1-389FCA25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B5D-CA30-4F21-8C59-FA4A1047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74B74-62C7-447B-A7B0-C4F9B6DD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99ECA-9F02-47D8-97F3-E2F99AC4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7AA2F-7C37-4D87-A84D-01176854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C05F6-70A1-40F4-8F4F-486A22C9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C3119-A2B1-4FBD-8C41-81B43D2E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45143-FB2C-4C68-A535-DE2236FD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60CE3-0CDE-4B59-9C3C-F259E530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1698F-EDF0-4087-8073-2DBFBE14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21DCD-A525-4809-99AA-5EA8634B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44DB5-1BDC-4BCA-A197-6D568A85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24A-39A6-48DA-AB0C-E486070E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D9297-7A29-4C91-9E83-6930F603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96D2-2844-4586-9BAF-EF8572A0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0A6-A5FA-446A-BC5B-2BFF2486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26DE-3836-495B-9046-CCB3A361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F234-5630-48EE-B6DD-81EFFAD51A81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Zaoblený obdélník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Obdélník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Obdélník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F4BB-3AA7-401A-8054-3A0E971421F2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Zaoblený obdélník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Zaoblený obdélník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Obdélník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Obdélník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Obdélník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65C6-046E-4990-A37E-8B7408FCBEFD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Obdélní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Zaoblený obdélník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127B-2153-47C1-9DEE-1800C89BD566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Obdélník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Obdélník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Obdélník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1124-2104-45EA-94D8-97038A2EC0E8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696464"/>
                </a:solidFill>
                <a:latin typeface="Perpetua"/>
              </a:rPr>
              <a:t>Základní škola Dub nad Moravou</a:t>
            </a:r>
            <a:endParaRPr b="0" lang="en-US" sz="5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ff"/>
                </a:solidFill>
                <a:latin typeface="Franklin Gothic Book"/>
              </a:rPr>
              <a:t>Basic school </a:t>
            </a:r>
            <a:br>
              <a:rPr sz="5400"/>
            </a:br>
            <a:r>
              <a:rPr b="0" lang="cs-CZ" sz="5400" spc="-1" strike="noStrike">
                <a:solidFill>
                  <a:srgbClr val="ffffff"/>
                </a:solidFill>
                <a:latin typeface="Franklin Gothic Book"/>
              </a:rPr>
              <a:t>Dub nad Moravou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96464"/>
                </a:solidFill>
                <a:latin typeface="Franklin Gothic Book"/>
              </a:rPr>
              <a:t>A Night with Andersen – our favourite night at school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34817"/>
                </a:solidFill>
                <a:latin typeface="Franklin Gothic Book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34817"/>
                </a:solidFill>
                <a:latin typeface="Franklin Gothic Book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Zástupný symbol pro obsah 6" descr="P1010340.JPG"/>
          <p:cNvPicPr/>
          <p:nvPr/>
        </p:nvPicPr>
        <p:blipFill>
          <a:blip r:embed="rId1"/>
          <a:stretch/>
        </p:blipFill>
        <p:spPr>
          <a:xfrm>
            <a:off x="914400" y="279072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268" name="Zástupný symbol pro obsah 7" descr="P1050161.JPG"/>
          <p:cNvPicPr/>
          <p:nvPr/>
        </p:nvPicPr>
        <p:blipFill>
          <a:blip r:embed="rId2"/>
          <a:stretch/>
        </p:blipFill>
        <p:spPr>
          <a:xfrm>
            <a:off x="4952880" y="2951280"/>
            <a:ext cx="373392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A school club of handy fingers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d34817"/>
                </a:solidFill>
                <a:latin typeface="Franklin Gothic Book"/>
              </a:rPr>
              <a:t>Girls from the club meet once a week  and learn various crafts  and techniques.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d34817"/>
                </a:solidFill>
                <a:latin typeface="Franklin Gothic Book"/>
              </a:rPr>
              <a:t>They  work with beads, FIMO mass, paper, wood… They are very good at basketry.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2" name="Zástupný symbol pro obsah 6" descr="P1050536.JPG"/>
          <p:cNvPicPr/>
          <p:nvPr/>
        </p:nvPicPr>
        <p:blipFill>
          <a:blip r:embed="rId1"/>
          <a:stretch/>
        </p:blipFill>
        <p:spPr>
          <a:xfrm>
            <a:off x="914400" y="2951280"/>
            <a:ext cx="3733920" cy="2479680"/>
          </a:xfrm>
          <a:prstGeom prst="rect">
            <a:avLst/>
          </a:prstGeom>
          <a:ln w="0">
            <a:noFill/>
          </a:ln>
        </p:spPr>
      </p:pic>
      <p:pic>
        <p:nvPicPr>
          <p:cNvPr id="273" name="Zástupný symbol pro obsah 7" descr="P1040652.JPG"/>
          <p:cNvPicPr/>
          <p:nvPr/>
        </p:nvPicPr>
        <p:blipFill>
          <a:blip r:embed="rId2"/>
          <a:stretch/>
        </p:blipFill>
        <p:spPr>
          <a:xfrm>
            <a:off x="4952880" y="2951280"/>
            <a:ext cx="373392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85520" y="272520"/>
            <a:ext cx="790092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School sport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714320"/>
            <a:ext cx="3733920" cy="495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90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34817"/>
                </a:solidFill>
                <a:latin typeface="Franklin Gothic Book"/>
              </a:rPr>
              <a:t>An athletics competi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31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34817"/>
                </a:solidFill>
                <a:latin typeface="Franklin Gothic Book"/>
              </a:rPr>
              <a:t>Our school football tea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Zástupný symbol pro obsah 6" descr="Fotky+mix-pavl%C3%ADna+430.JPG"/>
          <p:cNvPicPr/>
          <p:nvPr/>
        </p:nvPicPr>
        <p:blipFill>
          <a:blip r:embed="rId1"/>
          <a:stretch/>
        </p:blipFill>
        <p:spPr>
          <a:xfrm>
            <a:off x="914400" y="279072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278" name="Zástupný symbol pro obsah 7" descr="Fotky+mix-pavl%C3%ADna+371.JPG"/>
          <p:cNvPicPr/>
          <p:nvPr/>
        </p:nvPicPr>
        <p:blipFill>
          <a:blip r:embed="rId2"/>
          <a:stretch/>
        </p:blipFill>
        <p:spPr>
          <a:xfrm>
            <a:off x="4952880" y="279072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A school – a part of our village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89000"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d34817"/>
                </a:solidFill>
                <a:latin typeface="Franklin Gothic Book"/>
              </a:rPr>
              <a:t>The school building was built in 1890, the first school in the village was mentioned in 16th century.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d34817"/>
                </a:solidFill>
                <a:latin typeface="Franklin Gothic Book"/>
              </a:rPr>
              <a:t>Our village is very old. Its name in English means </a:t>
            </a:r>
            <a:r>
              <a:rPr b="1" i="1" lang="cs-CZ" sz="1700" spc="-1" strike="noStrike">
                <a:solidFill>
                  <a:srgbClr val="d34817"/>
                </a:solidFill>
                <a:latin typeface="Franklin Gothic Book"/>
              </a:rPr>
              <a:t> An Oak Tree upon the Morava River.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3" name="Zástupný symbol pro obsah 3" descr="S011437.jpg"/>
          <p:cNvPicPr/>
          <p:nvPr/>
        </p:nvPicPr>
        <p:blipFill>
          <a:blip r:embed="rId1"/>
          <a:stretch/>
        </p:blipFill>
        <p:spPr>
          <a:xfrm>
            <a:off x="1143000" y="3000240"/>
            <a:ext cx="2868480" cy="2151360"/>
          </a:xfrm>
          <a:prstGeom prst="rect">
            <a:avLst/>
          </a:prstGeom>
          <a:ln w="0">
            <a:noFill/>
          </a:ln>
        </p:spPr>
      </p:pic>
      <p:pic>
        <p:nvPicPr>
          <p:cNvPr id="234" name="Zástupný symbol pro obsah 6" descr="images.jpg"/>
          <p:cNvPicPr/>
          <p:nvPr/>
        </p:nvPicPr>
        <p:blipFill>
          <a:blip r:embed="rId2"/>
          <a:stretch/>
        </p:blipFill>
        <p:spPr>
          <a:xfrm>
            <a:off x="6362640" y="3619440"/>
            <a:ext cx="914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Two school buildings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94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d34817"/>
                </a:solidFill>
                <a:latin typeface="Franklin Gothic Book"/>
              </a:rPr>
              <a:t>A path to the upper building for older children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34817"/>
                </a:solidFill>
                <a:latin typeface="Franklin Gothic Book"/>
              </a:rPr>
              <a:t>A lower building for younger childre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Zástupný symbol pro obsah 6" descr="Cesta+ke+%C5%A1kole+1.jpg"/>
          <p:cNvPicPr/>
          <p:nvPr/>
        </p:nvPicPr>
        <p:blipFill>
          <a:blip r:embed="rId1"/>
          <a:stretch/>
        </p:blipFill>
        <p:spPr>
          <a:xfrm>
            <a:off x="2013120" y="3166920"/>
            <a:ext cx="1536480" cy="2048040"/>
          </a:xfrm>
          <a:prstGeom prst="rect">
            <a:avLst/>
          </a:prstGeom>
          <a:ln w="0">
            <a:noFill/>
          </a:ln>
        </p:spPr>
      </p:pic>
      <p:pic>
        <p:nvPicPr>
          <p:cNvPr id="239" name="Zástupný symbol pro obsah 7" descr="c5b4846a2e.jpg"/>
          <p:cNvPicPr/>
          <p:nvPr/>
        </p:nvPicPr>
        <p:blipFill>
          <a:blip r:embed="rId2"/>
          <a:stretch/>
        </p:blipFill>
        <p:spPr>
          <a:xfrm>
            <a:off x="6058080" y="3730680"/>
            <a:ext cx="152388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96464"/>
                </a:solidFill>
                <a:latin typeface="Franklin Gothic Book"/>
              </a:rPr>
              <a:t>A school Art room in an attic.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905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our students love  their  Art less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Art is taught in  a modern sunny  studi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children like to work   in  groups on big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Perpetua"/>
              </a:rPr>
              <a:t>sized  work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2" name="Zástupný symbol pro obsah 4" descr="P1050688.JPG"/>
          <p:cNvPicPr/>
          <p:nvPr/>
        </p:nvPicPr>
        <p:blipFill>
          <a:blip r:embed="rId1"/>
          <a:stretch/>
        </p:blipFill>
        <p:spPr>
          <a:xfrm>
            <a:off x="2971800" y="1951200"/>
            <a:ext cx="57150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Art lessons in an attic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4" name="Zástupný symbol pro obsah 4" descr="P1050696.JPG"/>
          <p:cNvPicPr/>
          <p:nvPr/>
        </p:nvPicPr>
        <p:blipFill>
          <a:blip r:embed="rId1"/>
          <a:stretch/>
        </p:blipFill>
        <p:spPr>
          <a:xfrm>
            <a:off x="914400" y="2489040"/>
            <a:ext cx="3749760" cy="2489400"/>
          </a:xfrm>
          <a:prstGeom prst="rect">
            <a:avLst/>
          </a:prstGeom>
          <a:ln w="0">
            <a:noFill/>
          </a:ln>
        </p:spPr>
      </p:pic>
      <p:pic>
        <p:nvPicPr>
          <p:cNvPr id="245" name="Zástupný symbol pro obsah 5" descr="P1060747.JPG"/>
          <p:cNvPicPr/>
          <p:nvPr/>
        </p:nvPicPr>
        <p:blipFill>
          <a:blip r:embed="rId2"/>
          <a:stretch/>
        </p:blipFill>
        <p:spPr>
          <a:xfrm>
            <a:off x="4933800" y="2489040"/>
            <a:ext cx="374976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A school ICT room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7" name="Zástupný symbol pro obsah 4" descr="P1060730.JPG"/>
          <p:cNvPicPr/>
          <p:nvPr/>
        </p:nvPicPr>
        <p:blipFill>
          <a:blip r:embed="rId1"/>
          <a:stretch/>
        </p:blipFill>
        <p:spPr>
          <a:xfrm>
            <a:off x="914400" y="2489040"/>
            <a:ext cx="3749760" cy="2489400"/>
          </a:xfrm>
          <a:prstGeom prst="rect">
            <a:avLst/>
          </a:prstGeom>
          <a:ln w="0">
            <a:noFill/>
          </a:ln>
        </p:spPr>
      </p:pic>
      <p:pic>
        <p:nvPicPr>
          <p:cNvPr id="248" name="Zástupný symbol pro obsah 5" descr="P1040808.JPG"/>
          <p:cNvPicPr/>
          <p:nvPr/>
        </p:nvPicPr>
        <p:blipFill>
          <a:blip r:embed="rId2"/>
          <a:stretch/>
        </p:blipFill>
        <p:spPr>
          <a:xfrm>
            <a:off x="4933800" y="2489040"/>
            <a:ext cx="374976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School projects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d34817"/>
                </a:solidFill>
                <a:latin typeface="Franklin Gothic Book"/>
              </a:rPr>
              <a:t>Tell me what you eat…  A project about healthy eating habbits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34817"/>
                </a:solidFill>
                <a:latin typeface="Franklin Gothic Book"/>
              </a:rPr>
              <a:t>                </a:t>
            </a:r>
            <a:r>
              <a:rPr b="1" lang="cs-CZ" sz="2400" spc="-1" strike="noStrike">
                <a:solidFill>
                  <a:srgbClr val="d34817"/>
                </a:solidFill>
                <a:latin typeface="Franklin Gothic Book"/>
              </a:rPr>
              <a:t>A tree da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Zástupný symbol pro obsah 7" descr="P1060774.JPG"/>
          <p:cNvPicPr/>
          <p:nvPr/>
        </p:nvPicPr>
        <p:blipFill>
          <a:blip r:embed="rId1"/>
          <a:stretch/>
        </p:blipFill>
        <p:spPr>
          <a:xfrm>
            <a:off x="914400" y="2951280"/>
            <a:ext cx="3733920" cy="2479680"/>
          </a:xfrm>
          <a:prstGeom prst="rect">
            <a:avLst/>
          </a:prstGeom>
          <a:ln w="0">
            <a:noFill/>
          </a:ln>
        </p:spPr>
      </p:pic>
      <p:pic>
        <p:nvPicPr>
          <p:cNvPr id="253" name="Zástupný symbol pro obsah 6" descr="P1050736.JPG"/>
          <p:cNvPicPr/>
          <p:nvPr/>
        </p:nvPicPr>
        <p:blipFill>
          <a:blip r:embed="rId2"/>
          <a:stretch/>
        </p:blipFill>
        <p:spPr>
          <a:xfrm>
            <a:off x="4952880" y="2951280"/>
            <a:ext cx="373392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School events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83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34817"/>
                </a:solidFill>
                <a:latin typeface="Franklin Gothic Book"/>
              </a:rPr>
              <a:t>St. Nicolas visit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34817"/>
                </a:solidFill>
                <a:latin typeface="Franklin Gothic Book"/>
              </a:rPr>
              <a:t>at schoo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91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34817"/>
                </a:solidFill>
                <a:latin typeface="Franklin Gothic Book"/>
              </a:rPr>
              <a:t>Halloween  party at schoo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Zástupný symbol pro obsah 6" descr="P1040617.JPG"/>
          <p:cNvPicPr/>
          <p:nvPr/>
        </p:nvPicPr>
        <p:blipFill>
          <a:blip r:embed="rId1"/>
          <a:stretch/>
        </p:blipFill>
        <p:spPr>
          <a:xfrm>
            <a:off x="1165320" y="2394000"/>
            <a:ext cx="2477880" cy="3732120"/>
          </a:xfrm>
          <a:prstGeom prst="rect">
            <a:avLst/>
          </a:prstGeom>
          <a:ln w="0">
            <a:noFill/>
          </a:ln>
        </p:spPr>
      </p:pic>
      <p:pic>
        <p:nvPicPr>
          <p:cNvPr id="258" name="Zástupný symbol pro obsah 7" descr="P1040439.JPG"/>
          <p:cNvPicPr/>
          <p:nvPr/>
        </p:nvPicPr>
        <p:blipFill>
          <a:blip r:embed="rId2"/>
          <a:stretch/>
        </p:blipFill>
        <p:spPr>
          <a:xfrm>
            <a:off x="4952880" y="2951280"/>
            <a:ext cx="373392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96464"/>
                </a:solidFill>
                <a:latin typeface="Franklin Gothic Book"/>
              </a:rPr>
              <a:t>School culture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34817"/>
                </a:solidFill>
                <a:latin typeface="Franklin Gothic Book"/>
              </a:rPr>
              <a:t>Students´ photo exhibition in a church tomb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91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34817"/>
                </a:solidFill>
                <a:latin typeface="Franklin Gothic Book"/>
              </a:rPr>
              <a:t>A concert of our school choi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Zástupný symbol pro obsah 10" descr="P1040747.JPG"/>
          <p:cNvPicPr/>
          <p:nvPr/>
        </p:nvPicPr>
        <p:blipFill>
          <a:blip r:embed="rId1"/>
          <a:stretch/>
        </p:blipFill>
        <p:spPr>
          <a:xfrm>
            <a:off x="914400" y="2951280"/>
            <a:ext cx="3733920" cy="2479680"/>
          </a:xfrm>
          <a:prstGeom prst="rect">
            <a:avLst/>
          </a:prstGeom>
          <a:ln w="0">
            <a:noFill/>
          </a:ln>
        </p:spPr>
      </p:pic>
      <p:pic>
        <p:nvPicPr>
          <p:cNvPr id="263" name="Zástupný symbol pro obsah 11" descr="P1040789.JPG"/>
          <p:cNvPicPr/>
          <p:nvPr/>
        </p:nvPicPr>
        <p:blipFill>
          <a:blip r:embed="rId2"/>
          <a:stretch/>
        </p:blipFill>
        <p:spPr>
          <a:xfrm>
            <a:off x="4952880" y="2951280"/>
            <a:ext cx="373392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3:11:21Z</dcterms:created>
  <dc:creator>lokalni</dc:creator>
  <dc:description/>
  <dc:language>en-US</dc:language>
  <cp:lastModifiedBy>lokalni</cp:lastModifiedBy>
  <dcterms:modified xsi:type="dcterms:W3CDTF">2009-10-17T14:49:58Z</dcterms:modified>
  <cp:revision>10</cp:revision>
  <dc:subject/>
  <dc:title>Basic school  Dub nad Moravou </dc:title>
</cp:coreProperties>
</file>